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3407-135D-4771-B954-88F13C65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75DD-49E1-4819-8B76-F253D142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017D-F786-4120-995C-BC2085FC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AE5A-A006-4A09-B9E6-9579A50A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90F6-9267-40D1-AB06-09AA3CFF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748E-A2D7-423A-98F5-2571D7E2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6A1E-9FA1-4EF7-903C-7ED33D7F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4A59-5F5E-480E-BCA5-6F3FEB7C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D628-E4B7-47C1-B29F-3D8417A2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10D-09FA-483C-AF2A-7A2122D1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0F14-6145-415A-937D-C91D12BC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964-67BC-4776-B580-DAD6CD05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E98B-EAB1-45DF-BB44-9BF6F10E73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266120" y="1846440"/>
            <a:ext cx="3304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简易方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27068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整理与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168961"/>
          <p:cNvSpPr/>
          <p:nvPr/>
        </p:nvSpPr>
        <p:spPr>
          <a:xfrm>
            <a:off x="34920" y="1125360"/>
            <a:ext cx="8964720" cy="29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÷0.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 　　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5×1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　　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2×0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÷0.2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　　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6=           0.6+2.13=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6×0.4=      2.4χ-χ=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68962"/>
          <p:cNvSpPr/>
          <p:nvPr/>
        </p:nvSpPr>
        <p:spPr>
          <a:xfrm>
            <a:off x="1835280" y="1773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68963"/>
          <p:cNvSpPr/>
          <p:nvPr/>
        </p:nvSpPr>
        <p:spPr>
          <a:xfrm>
            <a:off x="5146560" y="177336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68964"/>
          <p:cNvSpPr/>
          <p:nvPr/>
        </p:nvSpPr>
        <p:spPr>
          <a:xfrm>
            <a:off x="1906560" y="24796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68965"/>
          <p:cNvSpPr/>
          <p:nvPr/>
        </p:nvSpPr>
        <p:spPr>
          <a:xfrm>
            <a:off x="4572000" y="24796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68966"/>
          <p:cNvSpPr/>
          <p:nvPr/>
        </p:nvSpPr>
        <p:spPr>
          <a:xfrm>
            <a:off x="2048040" y="3095640"/>
            <a:ext cx="12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68967"/>
          <p:cNvSpPr/>
          <p:nvPr/>
        </p:nvSpPr>
        <p:spPr>
          <a:xfrm>
            <a:off x="4713120" y="3095640"/>
            <a:ext cx="14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4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68968"/>
          <p:cNvSpPr/>
          <p:nvPr/>
        </p:nvSpPr>
        <p:spPr>
          <a:xfrm>
            <a:off x="8026560" y="1805040"/>
            <a:ext cx="10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68969"/>
          <p:cNvSpPr/>
          <p:nvPr/>
        </p:nvSpPr>
        <p:spPr>
          <a:xfrm>
            <a:off x="8097840" y="24940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68970"/>
          <p:cNvSpPr/>
          <p:nvPr/>
        </p:nvSpPr>
        <p:spPr>
          <a:xfrm>
            <a:off x="7593120" y="3127320"/>
            <a:ext cx="14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2"/>
          <p:cNvGrpSpPr/>
          <p:nvPr/>
        </p:nvGrpSpPr>
        <p:grpSpPr>
          <a:xfrm>
            <a:off x="34920" y="878040"/>
            <a:ext cx="3244680" cy="525240"/>
            <a:chOff x="34920" y="878040"/>
            <a:chExt cx="3244680" cy="525240"/>
          </a:xfrm>
        </p:grpSpPr>
        <p:grpSp>
          <p:nvGrpSpPr>
            <p:cNvPr id="57" name="圆角矩形 77"/>
            <p:cNvGrpSpPr/>
            <p:nvPr/>
          </p:nvGrpSpPr>
          <p:grpSpPr>
            <a:xfrm>
              <a:off x="178560" y="878040"/>
              <a:ext cx="3101040" cy="525240"/>
              <a:chOff x="178560" y="878040"/>
              <a:chExt cx="3101040" cy="525240"/>
            </a:xfrm>
          </p:grpSpPr>
          <p:pic>
            <p:nvPicPr>
              <p:cNvPr id="58" name="圆角矩形 77" descr=""/>
              <p:cNvPicPr/>
              <p:nvPr/>
            </p:nvPicPr>
            <p:blipFill>
              <a:blip r:embed="rId1"/>
              <a:stretch/>
            </p:blipFill>
            <p:spPr>
              <a:xfrm>
                <a:off x="178560" y="878040"/>
                <a:ext cx="310104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224280" y="952920"/>
                <a:ext cx="295164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口算热身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组合 4"/>
            <p:cNvGrpSpPr/>
            <p:nvPr/>
          </p:nvGrpSpPr>
          <p:grpSpPr>
            <a:xfrm>
              <a:off x="34920" y="994320"/>
              <a:ext cx="428400" cy="187200"/>
              <a:chOff x="34920" y="994320"/>
              <a:chExt cx="428400" cy="187200"/>
            </a:xfrm>
          </p:grpSpPr>
          <p:sp>
            <p:nvSpPr>
              <p:cNvPr id="61" name="椭圆 79"/>
              <p:cNvSpPr/>
              <p:nvPr/>
            </p:nvSpPr>
            <p:spPr>
              <a:xfrm rot="16200000">
                <a:off x="349200" y="1067400"/>
                <a:ext cx="8244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" name="椭圆 80"/>
              <p:cNvGrpSpPr/>
              <p:nvPr/>
            </p:nvGrpSpPr>
            <p:grpSpPr>
              <a:xfrm>
                <a:off x="331200" y="1107360"/>
                <a:ext cx="120600" cy="65880"/>
                <a:chOff x="331200" y="1107360"/>
                <a:chExt cx="120600" cy="65880"/>
              </a:xfrm>
            </p:grpSpPr>
            <p:pic>
              <p:nvPicPr>
                <p:cNvPr id="63" name="椭圆 8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1200" y="1107360"/>
                  <a:ext cx="12060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" name=""/>
                <p:cNvSpPr/>
                <p:nvPr/>
              </p:nvSpPr>
              <p:spPr>
                <a:xfrm rot="16200000">
                  <a:off x="366120" y="109836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椭圆 81"/>
              <p:cNvSpPr/>
              <p:nvPr/>
            </p:nvSpPr>
            <p:spPr>
              <a:xfrm rot="16200000">
                <a:off x="349200" y="962640"/>
                <a:ext cx="8244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椭圆 82"/>
              <p:cNvGrpSpPr/>
              <p:nvPr/>
            </p:nvGrpSpPr>
            <p:grpSpPr>
              <a:xfrm>
                <a:off x="331200" y="1002960"/>
                <a:ext cx="120600" cy="65880"/>
                <a:chOff x="331200" y="1002960"/>
                <a:chExt cx="120600" cy="65880"/>
              </a:xfrm>
            </p:grpSpPr>
            <p:pic>
              <p:nvPicPr>
                <p:cNvPr id="67" name="椭圆 8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1200" y="1002960"/>
                  <a:ext cx="12060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6200000">
                  <a:off x="366120" y="99324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圆角矩形 83"/>
              <p:cNvGrpSpPr/>
              <p:nvPr/>
            </p:nvGrpSpPr>
            <p:grpSpPr>
              <a:xfrm>
                <a:off x="34920" y="1131480"/>
                <a:ext cx="394920" cy="48600"/>
                <a:chOff x="34920" y="1131480"/>
                <a:chExt cx="394920" cy="48600"/>
              </a:xfrm>
            </p:grpSpPr>
            <p:pic>
              <p:nvPicPr>
                <p:cNvPr id="70" name="圆角矩形 8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4920" y="1131480"/>
                  <a:ext cx="394920" cy="4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6200000">
                  <a:off x="227160" y="99288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圆角矩形 84"/>
              <p:cNvGrpSpPr/>
              <p:nvPr/>
            </p:nvGrpSpPr>
            <p:grpSpPr>
              <a:xfrm>
                <a:off x="34920" y="1103760"/>
                <a:ext cx="394920" cy="51840"/>
                <a:chOff x="34920" y="1103760"/>
                <a:chExt cx="394920" cy="51840"/>
              </a:xfrm>
            </p:grpSpPr>
            <p:pic>
              <p:nvPicPr>
                <p:cNvPr id="73" name="圆角矩形 8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920" y="110376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16200000">
                  <a:off x="227160" y="96660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圆角矩形 85"/>
              <p:cNvGrpSpPr/>
              <p:nvPr/>
            </p:nvGrpSpPr>
            <p:grpSpPr>
              <a:xfrm>
                <a:off x="34920" y="1023840"/>
                <a:ext cx="394920" cy="48600"/>
                <a:chOff x="34920" y="1023840"/>
                <a:chExt cx="394920" cy="48600"/>
              </a:xfrm>
            </p:grpSpPr>
            <p:pic>
              <p:nvPicPr>
                <p:cNvPr id="76" name="圆角矩形 8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4920" y="1023840"/>
                  <a:ext cx="394920" cy="4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 rot="16200000">
                  <a:off x="227160" y="88560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圆角矩形 86"/>
              <p:cNvGrpSpPr/>
              <p:nvPr/>
            </p:nvGrpSpPr>
            <p:grpSpPr>
              <a:xfrm>
                <a:off x="34920" y="995760"/>
                <a:ext cx="394920" cy="51840"/>
                <a:chOff x="34920" y="995760"/>
                <a:chExt cx="394920" cy="51840"/>
              </a:xfrm>
            </p:grpSpPr>
            <p:pic>
              <p:nvPicPr>
                <p:cNvPr id="79" name="圆角矩形 86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4920" y="995760"/>
                  <a:ext cx="39492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 rot="16200000">
                  <a:off x="227160" y="858960"/>
                  <a:ext cx="6840" cy="32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169985"/>
          <p:cNvSpPr/>
          <p:nvPr/>
        </p:nvSpPr>
        <p:spPr>
          <a:xfrm>
            <a:off x="0" y="498600"/>
            <a:ext cx="89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举例说一说等式和方程有什么联系和区别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举例说一说本单元中我们解了哪些形式的方程？是怎样解的？解这些方程的依据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列方程解决实际问题时一般分几步完成？你觉得在列方程解决问题时要注意些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69986"/>
          <p:cNvSpPr/>
          <p:nvPr/>
        </p:nvSpPr>
        <p:spPr>
          <a:xfrm>
            <a:off x="324000" y="128736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等式不一定是方程。例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+2=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是等式，但不是方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69987"/>
          <p:cNvSpPr/>
          <p:nvPr/>
        </p:nvSpPr>
        <p:spPr>
          <a:xfrm>
            <a:off x="324000" y="176688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方程一定是等式。例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X+2=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是方程，也是等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69988"/>
          <p:cNvSpPr/>
          <p:nvPr/>
        </p:nvSpPr>
        <p:spPr>
          <a:xfrm>
            <a:off x="324000" y="300672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方程属于等式中特殊的一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69989"/>
          <p:cNvSpPr/>
          <p:nvPr/>
        </p:nvSpPr>
        <p:spPr>
          <a:xfrm>
            <a:off x="181080" y="3541680"/>
            <a:ext cx="87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等式两边同时加上或减去同一个数，所得结果仍然是等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69990"/>
          <p:cNvSpPr/>
          <p:nvPr/>
        </p:nvSpPr>
        <p:spPr>
          <a:xfrm>
            <a:off x="55440" y="4944960"/>
            <a:ext cx="9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等式两边同时乘或除以同一个不等于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数，所得结果仍然是等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69991"/>
          <p:cNvSpPr/>
          <p:nvPr/>
        </p:nvSpPr>
        <p:spPr>
          <a:xfrm>
            <a:off x="181080" y="52862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利用等式的性质解方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69992"/>
          <p:cNvSpPr/>
          <p:nvPr/>
        </p:nvSpPr>
        <p:spPr>
          <a:xfrm>
            <a:off x="324000" y="5641920"/>
            <a:ext cx="45352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想清数量关系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设未知数为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χ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根据数量关系列出方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2"/>
          <p:cNvGrpSpPr/>
          <p:nvPr/>
        </p:nvGrpSpPr>
        <p:grpSpPr>
          <a:xfrm>
            <a:off x="1440" y="374760"/>
            <a:ext cx="3245040" cy="525240"/>
            <a:chOff x="1440" y="374760"/>
            <a:chExt cx="3245040" cy="525240"/>
          </a:xfrm>
        </p:grpSpPr>
        <p:grpSp>
          <p:nvGrpSpPr>
            <p:cNvPr id="90" name="圆角矩形 77"/>
            <p:cNvGrpSpPr/>
            <p:nvPr/>
          </p:nvGrpSpPr>
          <p:grpSpPr>
            <a:xfrm>
              <a:off x="147960" y="374760"/>
              <a:ext cx="3098520" cy="525240"/>
              <a:chOff x="147960" y="374760"/>
              <a:chExt cx="3098520" cy="525240"/>
            </a:xfrm>
          </p:grpSpPr>
          <p:pic>
            <p:nvPicPr>
              <p:cNvPr id="91" name="圆角矩形 77" descr=""/>
              <p:cNvPicPr/>
              <p:nvPr/>
            </p:nvPicPr>
            <p:blipFill>
              <a:blip r:embed="rId1"/>
              <a:stretch/>
            </p:blipFill>
            <p:spPr>
              <a:xfrm>
                <a:off x="147960" y="374760"/>
                <a:ext cx="3098520" cy="52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190800" y="448200"/>
                <a:ext cx="29491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自主整理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组合 4"/>
            <p:cNvGrpSpPr/>
            <p:nvPr/>
          </p:nvGrpSpPr>
          <p:grpSpPr>
            <a:xfrm>
              <a:off x="1440" y="489960"/>
              <a:ext cx="428040" cy="188640"/>
              <a:chOff x="1440" y="489960"/>
              <a:chExt cx="428040" cy="188640"/>
            </a:xfrm>
          </p:grpSpPr>
          <p:sp>
            <p:nvSpPr>
              <p:cNvPr id="94" name="椭圆 79"/>
              <p:cNvSpPr/>
              <p:nvPr/>
            </p:nvSpPr>
            <p:spPr>
              <a:xfrm rot="16200000">
                <a:off x="315720" y="564840"/>
                <a:ext cx="8280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椭圆 80"/>
              <p:cNvGrpSpPr/>
              <p:nvPr/>
            </p:nvGrpSpPr>
            <p:grpSpPr>
              <a:xfrm>
                <a:off x="295200" y="601920"/>
                <a:ext cx="119520" cy="69840"/>
                <a:chOff x="295200" y="601920"/>
                <a:chExt cx="119520" cy="69840"/>
              </a:xfrm>
            </p:grpSpPr>
            <p:pic>
              <p:nvPicPr>
                <p:cNvPr id="96" name="椭圆 8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5200" y="601920"/>
                  <a:ext cx="119520" cy="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" name=""/>
                <p:cNvSpPr/>
                <p:nvPr/>
              </p:nvSpPr>
              <p:spPr>
                <a:xfrm rot="16200000">
                  <a:off x="331920" y="59472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椭圆 81"/>
              <p:cNvSpPr/>
              <p:nvPr/>
            </p:nvSpPr>
            <p:spPr>
              <a:xfrm rot="16200000">
                <a:off x="315720" y="459000"/>
                <a:ext cx="8280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" name="椭圆 82"/>
              <p:cNvGrpSpPr/>
              <p:nvPr/>
            </p:nvGrpSpPr>
            <p:grpSpPr>
              <a:xfrm>
                <a:off x="295200" y="496800"/>
                <a:ext cx="119520" cy="66240"/>
                <a:chOff x="295200" y="496800"/>
                <a:chExt cx="119520" cy="66240"/>
              </a:xfrm>
            </p:grpSpPr>
            <p:pic>
              <p:nvPicPr>
                <p:cNvPr id="100" name="椭圆 8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5200" y="496800"/>
                  <a:ext cx="119520" cy="6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" name=""/>
                <p:cNvSpPr/>
                <p:nvPr/>
              </p:nvSpPr>
              <p:spPr>
                <a:xfrm rot="16200000">
                  <a:off x="331920" y="48852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圆角矩形 83"/>
              <p:cNvGrpSpPr/>
              <p:nvPr/>
            </p:nvGrpSpPr>
            <p:grpSpPr>
              <a:xfrm>
                <a:off x="1440" y="626400"/>
                <a:ext cx="392040" cy="52200"/>
                <a:chOff x="1440" y="626400"/>
                <a:chExt cx="392040" cy="52200"/>
              </a:xfrm>
            </p:grpSpPr>
            <p:pic>
              <p:nvPicPr>
                <p:cNvPr id="103" name="圆角矩形 8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440" y="62640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" name=""/>
                <p:cNvSpPr/>
                <p:nvPr/>
              </p:nvSpPr>
              <p:spPr>
                <a:xfrm rot="16200000">
                  <a:off x="195120" y="49068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圆角矩形 84"/>
              <p:cNvGrpSpPr/>
              <p:nvPr/>
            </p:nvGrpSpPr>
            <p:grpSpPr>
              <a:xfrm>
                <a:off x="1440" y="598320"/>
                <a:ext cx="392040" cy="52200"/>
                <a:chOff x="1440" y="598320"/>
                <a:chExt cx="392040" cy="52200"/>
              </a:xfrm>
            </p:grpSpPr>
            <p:pic>
              <p:nvPicPr>
                <p:cNvPr id="106" name="圆角矩形 8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440" y="59832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 rot="16200000">
                  <a:off x="195120" y="46404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圆角矩形 85"/>
              <p:cNvGrpSpPr/>
              <p:nvPr/>
            </p:nvGrpSpPr>
            <p:grpSpPr>
              <a:xfrm>
                <a:off x="1440" y="517680"/>
                <a:ext cx="392040" cy="52200"/>
                <a:chOff x="1440" y="517680"/>
                <a:chExt cx="392040" cy="52200"/>
              </a:xfrm>
            </p:grpSpPr>
            <p:pic>
              <p:nvPicPr>
                <p:cNvPr id="109" name="圆角矩形 8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40" y="51768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 rot="16200000">
                  <a:off x="195120" y="38196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圆角矩形 86"/>
              <p:cNvGrpSpPr/>
              <p:nvPr/>
            </p:nvGrpSpPr>
            <p:grpSpPr>
              <a:xfrm>
                <a:off x="1440" y="489960"/>
                <a:ext cx="392040" cy="52200"/>
                <a:chOff x="1440" y="489960"/>
                <a:chExt cx="392040" cy="52200"/>
              </a:xfrm>
            </p:grpSpPr>
            <p:pic>
              <p:nvPicPr>
                <p:cNvPr id="112" name="圆角矩形 86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40" y="48996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 rot="16200000">
                  <a:off x="195120" y="35568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173058"/>
          <p:cNvSpPr/>
          <p:nvPr/>
        </p:nvSpPr>
        <p:spPr>
          <a:xfrm>
            <a:off x="0" y="1736640"/>
            <a:ext cx="91440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过关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2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　　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5.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6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1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挑战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09÷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1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2"/>
          <p:cNvGrpSpPr/>
          <p:nvPr/>
        </p:nvGrpSpPr>
        <p:grpSpPr>
          <a:xfrm>
            <a:off x="-130320" y="647640"/>
            <a:ext cx="3245040" cy="525600"/>
            <a:chOff x="-130320" y="647640"/>
            <a:chExt cx="3245040" cy="525600"/>
          </a:xfrm>
        </p:grpSpPr>
        <p:grpSp>
          <p:nvGrpSpPr>
            <p:cNvPr id="116" name="圆角矩形 77"/>
            <p:cNvGrpSpPr/>
            <p:nvPr/>
          </p:nvGrpSpPr>
          <p:grpSpPr>
            <a:xfrm>
              <a:off x="14040" y="647640"/>
              <a:ext cx="3100680" cy="525600"/>
              <a:chOff x="14040" y="647640"/>
              <a:chExt cx="3100680" cy="525600"/>
            </a:xfrm>
          </p:grpSpPr>
          <p:pic>
            <p:nvPicPr>
              <p:cNvPr id="117" name="圆角矩形 77" descr=""/>
              <p:cNvPicPr/>
              <p:nvPr/>
            </p:nvPicPr>
            <p:blipFill>
              <a:blip r:embed="rId1"/>
              <a:stretch/>
            </p:blipFill>
            <p:spPr>
              <a:xfrm>
                <a:off x="14040" y="647640"/>
                <a:ext cx="31006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59400" y="723240"/>
                <a:ext cx="29512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解方程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组合 4"/>
            <p:cNvGrpSpPr/>
            <p:nvPr/>
          </p:nvGrpSpPr>
          <p:grpSpPr>
            <a:xfrm>
              <a:off x="-130320" y="765000"/>
              <a:ext cx="428400" cy="187560"/>
              <a:chOff x="-130320" y="765000"/>
              <a:chExt cx="428400" cy="187560"/>
            </a:xfrm>
          </p:grpSpPr>
          <p:sp>
            <p:nvSpPr>
              <p:cNvPr id="120" name="椭圆 79"/>
              <p:cNvSpPr/>
              <p:nvPr/>
            </p:nvSpPr>
            <p:spPr>
              <a:xfrm rot="16200000">
                <a:off x="183960" y="837720"/>
                <a:ext cx="8208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椭圆 80"/>
              <p:cNvGrpSpPr/>
              <p:nvPr/>
            </p:nvGrpSpPr>
            <p:grpSpPr>
              <a:xfrm>
                <a:off x="166320" y="876240"/>
                <a:ext cx="120600" cy="65880"/>
                <a:chOff x="166320" y="876240"/>
                <a:chExt cx="120600" cy="65880"/>
              </a:xfrm>
            </p:grpSpPr>
            <p:pic>
              <p:nvPicPr>
                <p:cNvPr id="122" name="椭圆 8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6320" y="876240"/>
                  <a:ext cx="12060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" name=""/>
                <p:cNvSpPr/>
                <p:nvPr/>
              </p:nvSpPr>
              <p:spPr>
                <a:xfrm rot="16200000">
                  <a:off x="200520" y="86796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椭圆 81"/>
              <p:cNvSpPr/>
              <p:nvPr/>
            </p:nvSpPr>
            <p:spPr>
              <a:xfrm rot="16200000">
                <a:off x="183960" y="732960"/>
                <a:ext cx="82080" cy="14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椭圆 82"/>
              <p:cNvGrpSpPr/>
              <p:nvPr/>
            </p:nvGrpSpPr>
            <p:grpSpPr>
              <a:xfrm>
                <a:off x="166320" y="772200"/>
                <a:ext cx="120600" cy="65880"/>
                <a:chOff x="166320" y="772200"/>
                <a:chExt cx="120600" cy="65880"/>
              </a:xfrm>
            </p:grpSpPr>
            <p:pic>
              <p:nvPicPr>
                <p:cNvPr id="126" name="椭圆 8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66320" y="772200"/>
                  <a:ext cx="12060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" name=""/>
                <p:cNvSpPr/>
                <p:nvPr/>
              </p:nvSpPr>
              <p:spPr>
                <a:xfrm rot="16200000">
                  <a:off x="200520" y="763200"/>
                  <a:ext cx="47520" cy="8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圆角矩形 83"/>
              <p:cNvGrpSpPr/>
              <p:nvPr/>
            </p:nvGrpSpPr>
            <p:grpSpPr>
              <a:xfrm>
                <a:off x="-130320" y="900720"/>
                <a:ext cx="395280" cy="51840"/>
                <a:chOff x="-130320" y="900720"/>
                <a:chExt cx="395280" cy="51840"/>
              </a:xfrm>
            </p:grpSpPr>
            <p:pic>
              <p:nvPicPr>
                <p:cNvPr id="129" name="圆角矩形 8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-130320" y="90072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 rot="16200000">
                  <a:off x="61920" y="76248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圆角矩形 84"/>
              <p:cNvGrpSpPr/>
              <p:nvPr/>
            </p:nvGrpSpPr>
            <p:grpSpPr>
              <a:xfrm>
                <a:off x="-130320" y="873000"/>
                <a:ext cx="395280" cy="51840"/>
                <a:chOff x="-130320" y="873000"/>
                <a:chExt cx="395280" cy="51840"/>
              </a:xfrm>
            </p:grpSpPr>
            <p:pic>
              <p:nvPicPr>
                <p:cNvPr id="132" name="圆角矩形 8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-130320" y="87300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16200000">
                  <a:off x="61920" y="73620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圆角矩形 85"/>
              <p:cNvGrpSpPr/>
              <p:nvPr/>
            </p:nvGrpSpPr>
            <p:grpSpPr>
              <a:xfrm>
                <a:off x="-130320" y="793080"/>
                <a:ext cx="395280" cy="51840"/>
                <a:chOff x="-130320" y="793080"/>
                <a:chExt cx="395280" cy="51840"/>
              </a:xfrm>
            </p:grpSpPr>
            <p:pic>
              <p:nvPicPr>
                <p:cNvPr id="135" name="圆角矩形 8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-130320" y="79308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 rot="16200000">
                  <a:off x="61920" y="65520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圆角矩形 86"/>
              <p:cNvGrpSpPr/>
              <p:nvPr/>
            </p:nvGrpSpPr>
            <p:grpSpPr>
              <a:xfrm>
                <a:off x="-130320" y="765360"/>
                <a:ext cx="395280" cy="51840"/>
                <a:chOff x="-130320" y="765360"/>
                <a:chExt cx="395280" cy="51840"/>
              </a:xfrm>
            </p:grpSpPr>
            <p:pic>
              <p:nvPicPr>
                <p:cNvPr id="138" name="圆角矩形 86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-130320" y="765360"/>
                  <a:ext cx="3952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 rot="16200000">
                  <a:off x="61920" y="628920"/>
                  <a:ext cx="68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0" name="文本框 1"/>
          <p:cNvSpPr/>
          <p:nvPr/>
        </p:nvSpPr>
        <p:spPr>
          <a:xfrm>
            <a:off x="235080" y="2749680"/>
            <a:ext cx="76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x=17.5                                 x=    8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"/>
          <p:cNvSpPr/>
          <p:nvPr/>
        </p:nvSpPr>
        <p:spPr>
          <a:xfrm>
            <a:off x="550800" y="4116240"/>
            <a:ext cx="68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x=3.5                              x=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3"/>
          <p:cNvSpPr/>
          <p:nvPr/>
        </p:nvSpPr>
        <p:spPr>
          <a:xfrm>
            <a:off x="393840" y="5853240"/>
            <a:ext cx="680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x=2.09÷1.1    x=1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文本框 174082"/>
          <p:cNvSpPr/>
          <p:nvPr/>
        </p:nvSpPr>
        <p:spPr>
          <a:xfrm>
            <a:off x="317520" y="418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边长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×4=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正方形周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74083"/>
          <p:cNvSpPr/>
          <p:nvPr/>
        </p:nvSpPr>
        <p:spPr>
          <a:xfrm>
            <a:off x="1325520" y="4761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χ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74085"/>
          <p:cNvSpPr/>
          <p:nvPr/>
        </p:nvSpPr>
        <p:spPr>
          <a:xfrm>
            <a:off x="1558440" y="519264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χ=10÷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74086"/>
          <p:cNvSpPr/>
          <p:nvPr/>
        </p:nvSpPr>
        <p:spPr>
          <a:xfrm>
            <a:off x="1535760" y="562464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χ=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74087"/>
          <p:cNvSpPr/>
          <p:nvPr/>
        </p:nvSpPr>
        <p:spPr>
          <a:xfrm>
            <a:off x="820800" y="5192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74088"/>
          <p:cNvSpPr/>
          <p:nvPr/>
        </p:nvSpPr>
        <p:spPr>
          <a:xfrm>
            <a:off x="4853160" y="37306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底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高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÷2=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三角形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74089"/>
          <p:cNvSpPr/>
          <p:nvPr/>
        </p:nvSpPr>
        <p:spPr>
          <a:xfrm>
            <a:off x="5429160" y="430704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.6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χ÷2=14.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74090"/>
          <p:cNvSpPr/>
          <p:nvPr/>
        </p:nvSpPr>
        <p:spPr>
          <a:xfrm>
            <a:off x="4853160" y="47386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74091"/>
          <p:cNvSpPr/>
          <p:nvPr/>
        </p:nvSpPr>
        <p:spPr>
          <a:xfrm>
            <a:off x="6050880" y="473868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.6χ=14.76×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74092"/>
          <p:cNvSpPr/>
          <p:nvPr/>
        </p:nvSpPr>
        <p:spPr>
          <a:xfrm>
            <a:off x="5994720" y="524340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.6χ=29.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174093"/>
          <p:cNvGrpSpPr/>
          <p:nvPr/>
        </p:nvGrpSpPr>
        <p:grpSpPr>
          <a:xfrm>
            <a:off x="506520" y="1386000"/>
            <a:ext cx="2089080" cy="2804400"/>
            <a:chOff x="506520" y="1386000"/>
            <a:chExt cx="2089080" cy="2804400"/>
          </a:xfrm>
        </p:grpSpPr>
        <p:sp>
          <p:nvSpPr>
            <p:cNvPr id="154" name="矩形 174094"/>
            <p:cNvSpPr/>
            <p:nvPr/>
          </p:nvSpPr>
          <p:spPr>
            <a:xfrm>
              <a:off x="650880" y="2216160"/>
              <a:ext cx="1513080" cy="1513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174095"/>
            <p:cNvSpPr/>
            <p:nvPr/>
          </p:nvSpPr>
          <p:spPr>
            <a:xfrm>
              <a:off x="506520" y="138600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正方形周长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174096"/>
            <p:cNvSpPr/>
            <p:nvPr/>
          </p:nvSpPr>
          <p:spPr>
            <a:xfrm>
              <a:off x="650880" y="3549600"/>
              <a:ext cx="0" cy="36036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174097"/>
            <p:cNvSpPr/>
            <p:nvPr/>
          </p:nvSpPr>
          <p:spPr>
            <a:xfrm>
              <a:off x="2163960" y="3549600"/>
              <a:ext cx="0" cy="36036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174098"/>
            <p:cNvSpPr/>
            <p:nvPr/>
          </p:nvSpPr>
          <p:spPr>
            <a:xfrm>
              <a:off x="1803600" y="3767040"/>
              <a:ext cx="3603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174099"/>
            <p:cNvSpPr/>
            <p:nvPr/>
          </p:nvSpPr>
          <p:spPr>
            <a:xfrm flipH="1">
              <a:off x="650520" y="3767040"/>
              <a:ext cx="3603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174100"/>
            <p:cNvSpPr/>
            <p:nvPr/>
          </p:nvSpPr>
          <p:spPr>
            <a:xfrm>
              <a:off x="720720" y="3730680"/>
              <a:ext cx="144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宋体"/>
                </a:rPr>
                <a:t>χ</a:t>
              </a:r>
              <a:r>
                <a:rPr b="1" lang="zh-CN" sz="2400" spc="-1" strike="noStrike">
                  <a:solidFill>
                    <a:srgbClr val="cc0000"/>
                  </a:solidFill>
                  <a:latin typeface="宋体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任意多边形 174101"/>
          <p:cNvSpPr/>
          <p:nvPr/>
        </p:nvSpPr>
        <p:spPr>
          <a:xfrm>
            <a:off x="4349880" y="1643040"/>
            <a:ext cx="3240000" cy="1224000"/>
          </a:xfrm>
          <a:custGeom>
            <a:avLst/>
            <a:gdLst/>
            <a:ahLst/>
            <a:rect l="l" t="t" r="r" b="b"/>
            <a:pathLst>
              <a:path w="2041" h="771">
                <a:moveTo>
                  <a:pt x="680" y="0"/>
                </a:moveTo>
                <a:lnTo>
                  <a:pt x="0" y="771"/>
                </a:lnTo>
                <a:lnTo>
                  <a:pt x="2041" y="771"/>
                </a:lnTo>
                <a:lnTo>
                  <a:pt x="68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174102"/>
          <p:cNvSpPr/>
          <p:nvPr/>
        </p:nvSpPr>
        <p:spPr>
          <a:xfrm>
            <a:off x="5429160" y="164304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任意多边形 174103"/>
          <p:cNvSpPr/>
          <p:nvPr/>
        </p:nvSpPr>
        <p:spPr>
          <a:xfrm>
            <a:off x="5429160" y="2722680"/>
            <a:ext cx="144720" cy="144360"/>
          </a:xfrm>
          <a:custGeom>
            <a:avLst/>
            <a:gdLst/>
            <a:ahLst/>
            <a:rect l="l" t="t" r="r" b="b"/>
            <a:pathLst>
              <a:path w="91" h="91">
                <a:moveTo>
                  <a:pt x="0" y="0"/>
                </a:moveTo>
                <a:lnTo>
                  <a:pt x="91" y="0"/>
                </a:lnTo>
                <a:lnTo>
                  <a:pt x="91" y="9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74104"/>
          <p:cNvSpPr/>
          <p:nvPr/>
        </p:nvSpPr>
        <p:spPr>
          <a:xfrm>
            <a:off x="4205160" y="12096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角形面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4.7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方分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74105"/>
          <p:cNvSpPr/>
          <p:nvPr/>
        </p:nvSpPr>
        <p:spPr>
          <a:xfrm>
            <a:off x="5357880" y="19605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74106"/>
          <p:cNvSpPr/>
          <p:nvPr/>
        </p:nvSpPr>
        <p:spPr>
          <a:xfrm>
            <a:off x="5141880" y="28670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？分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74107"/>
          <p:cNvSpPr/>
          <p:nvPr/>
        </p:nvSpPr>
        <p:spPr>
          <a:xfrm>
            <a:off x="6172560" y="565956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χ=29.52÷3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74108"/>
          <p:cNvSpPr/>
          <p:nvPr/>
        </p:nvSpPr>
        <p:spPr>
          <a:xfrm>
            <a:off x="6112800" y="60912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χ=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2"/>
          <p:cNvGrpSpPr/>
          <p:nvPr/>
        </p:nvGrpSpPr>
        <p:grpSpPr>
          <a:xfrm>
            <a:off x="-130320" y="647640"/>
            <a:ext cx="3245400" cy="525600"/>
            <a:chOff x="-130320" y="647640"/>
            <a:chExt cx="3245400" cy="525600"/>
          </a:xfrm>
        </p:grpSpPr>
        <p:grpSp>
          <p:nvGrpSpPr>
            <p:cNvPr id="170" name="圆角矩形 77"/>
            <p:cNvGrpSpPr/>
            <p:nvPr/>
          </p:nvGrpSpPr>
          <p:grpSpPr>
            <a:xfrm>
              <a:off x="-22320" y="647640"/>
              <a:ext cx="3137400" cy="525600"/>
              <a:chOff x="-22320" y="647640"/>
              <a:chExt cx="3137400" cy="525600"/>
            </a:xfrm>
          </p:grpSpPr>
          <p:pic>
            <p:nvPicPr>
              <p:cNvPr id="171" name="圆角矩形 77" descr=""/>
              <p:cNvPicPr/>
              <p:nvPr/>
            </p:nvPicPr>
            <p:blipFill>
              <a:blip r:embed="rId1"/>
              <a:stretch/>
            </p:blipFill>
            <p:spPr>
              <a:xfrm>
                <a:off x="-22320" y="647640"/>
                <a:ext cx="313740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57600" y="723240"/>
                <a:ext cx="292464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看图列方程解答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组合 4"/>
            <p:cNvGrpSpPr/>
            <p:nvPr/>
          </p:nvGrpSpPr>
          <p:grpSpPr>
            <a:xfrm>
              <a:off x="-130320" y="765000"/>
              <a:ext cx="424440" cy="187560"/>
              <a:chOff x="-130320" y="765000"/>
              <a:chExt cx="424440" cy="187560"/>
            </a:xfrm>
          </p:grpSpPr>
          <p:sp>
            <p:nvSpPr>
              <p:cNvPr id="174" name="椭圆 79"/>
              <p:cNvSpPr/>
              <p:nvPr/>
            </p:nvSpPr>
            <p:spPr>
              <a:xfrm rot="16200000">
                <a:off x="180720" y="83844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椭圆 80"/>
              <p:cNvGrpSpPr/>
              <p:nvPr/>
            </p:nvGrpSpPr>
            <p:grpSpPr>
              <a:xfrm>
                <a:off x="163440" y="876240"/>
                <a:ext cx="119520" cy="65880"/>
                <a:chOff x="163440" y="876240"/>
                <a:chExt cx="119520" cy="65880"/>
              </a:xfrm>
            </p:grpSpPr>
            <p:pic>
              <p:nvPicPr>
                <p:cNvPr id="176" name="椭圆 8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3440" y="876240"/>
                  <a:ext cx="11952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6200000">
                  <a:off x="197280" y="86832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椭圆 81"/>
              <p:cNvSpPr/>
              <p:nvPr/>
            </p:nvSpPr>
            <p:spPr>
              <a:xfrm rot="16200000">
                <a:off x="180720" y="733680"/>
                <a:ext cx="8208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椭圆 82"/>
              <p:cNvGrpSpPr/>
              <p:nvPr/>
            </p:nvGrpSpPr>
            <p:grpSpPr>
              <a:xfrm>
                <a:off x="163440" y="772200"/>
                <a:ext cx="119520" cy="65880"/>
                <a:chOff x="163440" y="772200"/>
                <a:chExt cx="119520" cy="65880"/>
              </a:xfrm>
            </p:grpSpPr>
            <p:pic>
              <p:nvPicPr>
                <p:cNvPr id="180" name="椭圆 8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63440" y="772200"/>
                  <a:ext cx="11952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6200000">
                  <a:off x="197280" y="76356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圆角矩形 83"/>
              <p:cNvGrpSpPr/>
              <p:nvPr/>
            </p:nvGrpSpPr>
            <p:grpSpPr>
              <a:xfrm>
                <a:off x="-130320" y="900720"/>
                <a:ext cx="391680" cy="51840"/>
                <a:chOff x="-130320" y="900720"/>
                <a:chExt cx="391680" cy="51840"/>
              </a:xfrm>
            </p:grpSpPr>
            <p:pic>
              <p:nvPicPr>
                <p:cNvPr id="183" name="圆角矩形 8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-130320" y="90072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6200000">
                  <a:off x="60120" y="76428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圆角矩形 84"/>
              <p:cNvGrpSpPr/>
              <p:nvPr/>
            </p:nvGrpSpPr>
            <p:grpSpPr>
              <a:xfrm>
                <a:off x="-130320" y="873000"/>
                <a:ext cx="391680" cy="51840"/>
                <a:chOff x="-130320" y="873000"/>
                <a:chExt cx="391680" cy="51840"/>
              </a:xfrm>
            </p:grpSpPr>
            <p:pic>
              <p:nvPicPr>
                <p:cNvPr id="186" name="圆角矩形 8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-130320" y="87300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7" name=""/>
                <p:cNvSpPr/>
                <p:nvPr/>
              </p:nvSpPr>
              <p:spPr>
                <a:xfrm rot="16200000">
                  <a:off x="60120" y="738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圆角矩形 85"/>
              <p:cNvGrpSpPr/>
              <p:nvPr/>
            </p:nvGrpSpPr>
            <p:grpSpPr>
              <a:xfrm>
                <a:off x="-130320" y="793080"/>
                <a:ext cx="391680" cy="51840"/>
                <a:chOff x="-130320" y="793080"/>
                <a:chExt cx="391680" cy="51840"/>
              </a:xfrm>
            </p:grpSpPr>
            <p:pic>
              <p:nvPicPr>
                <p:cNvPr id="189" name="圆角矩形 8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-130320" y="79308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0" name=""/>
                <p:cNvSpPr/>
                <p:nvPr/>
              </p:nvSpPr>
              <p:spPr>
                <a:xfrm rot="16200000">
                  <a:off x="60120" y="65700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圆角矩形 86"/>
              <p:cNvGrpSpPr/>
              <p:nvPr/>
            </p:nvGrpSpPr>
            <p:grpSpPr>
              <a:xfrm>
                <a:off x="-130320" y="765360"/>
                <a:ext cx="391680" cy="51840"/>
                <a:chOff x="-130320" y="765360"/>
                <a:chExt cx="391680" cy="51840"/>
              </a:xfrm>
            </p:grpSpPr>
            <p:pic>
              <p:nvPicPr>
                <p:cNvPr id="192" name="圆角矩形 86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-130320" y="765360"/>
                  <a:ext cx="391680" cy="5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3" name=""/>
                <p:cNvSpPr/>
                <p:nvPr/>
              </p:nvSpPr>
              <p:spPr>
                <a:xfrm rot="16200000">
                  <a:off x="60120" y="630720"/>
                  <a:ext cx="684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4" name="矩形 8"/>
          <p:cNvSpPr/>
          <p:nvPr/>
        </p:nvSpPr>
        <p:spPr>
          <a:xfrm>
            <a:off x="6172560" y="565308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χ=29.52÷3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9"/>
          <p:cNvSpPr/>
          <p:nvPr/>
        </p:nvSpPr>
        <p:spPr>
          <a:xfrm>
            <a:off x="6112800" y="6084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χ=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文本框 175106"/>
          <p:cNvSpPr/>
          <p:nvPr/>
        </p:nvSpPr>
        <p:spPr>
          <a:xfrm>
            <a:off x="0" y="1154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球表面的陆地面积大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亿平方千米，比海洋面积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亿平方千米。海洋面积大约是多少亿平方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75107"/>
          <p:cNvSpPr/>
          <p:nvPr/>
        </p:nvSpPr>
        <p:spPr>
          <a:xfrm>
            <a:off x="34920" y="3962520"/>
            <a:ext cx="902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李老师在网上购买了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34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本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数学王子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，共花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275.2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元，其中邮费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元。每本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数学王子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多少元？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圆角矩形 77"/>
          <p:cNvGrpSpPr/>
          <p:nvPr/>
        </p:nvGrpSpPr>
        <p:grpSpPr>
          <a:xfrm>
            <a:off x="0" y="609480"/>
            <a:ext cx="3219480" cy="749520"/>
            <a:chOff x="0" y="609480"/>
            <a:chExt cx="3219480" cy="749520"/>
          </a:xfrm>
        </p:grpSpPr>
        <p:pic>
          <p:nvPicPr>
            <p:cNvPr id="199" name="圆角矩形 77" descr=""/>
            <p:cNvPicPr/>
            <p:nvPr/>
          </p:nvPicPr>
          <p:blipFill>
            <a:blip r:embed="rId1"/>
            <a:stretch/>
          </p:blipFill>
          <p:spPr>
            <a:xfrm>
              <a:off x="0" y="609480"/>
              <a:ext cx="32194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5160" y="663480"/>
              <a:ext cx="303372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宋体"/>
                </a:rPr>
                <a:t>列方程解决实际问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文本框 1"/>
          <p:cNvSpPr/>
          <p:nvPr/>
        </p:nvSpPr>
        <p:spPr>
          <a:xfrm>
            <a:off x="195120" y="2146320"/>
            <a:ext cx="702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解：设海洋面积大约是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亿平方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-2.1=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=3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答：海洋面积大约是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.6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亿平方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2"/>
          <p:cNvSpPr/>
          <p:nvPr/>
        </p:nvSpPr>
        <p:spPr>
          <a:xfrm>
            <a:off x="425520" y="4941720"/>
            <a:ext cx="788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解：设每本《数学王子》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4X+10=27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X=7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答：每本《数学王子》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.8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18:1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